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19.gif" ContentType="image/gif"/>
  <Override PartName="/ppt/media/image17.jpeg" ContentType="image/jpeg"/>
  <Override PartName="/ppt/media/image16.gif" ContentType="image/gif"/>
  <Override PartName="/ppt/media/image5.gif" ContentType="image/gif"/>
  <Override PartName="/ppt/media/image14.jpeg" ContentType="image/jpeg"/>
  <Override PartName="/ppt/media/image15.gif" ContentType="image/gif"/>
  <Override PartName="/ppt/media/image3.jpeg" ContentType="image/jpeg"/>
  <Override PartName="/ppt/media/image6.png" ContentType="image/png"/>
  <Override PartName="/ppt/media/image12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ED6-E293-4667-B7F7-C764A672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C1A-F5BE-4F5E-806F-370A7B57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BA0-C501-46B0-9827-7DA5324B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893-3C4D-4694-BFBD-E281F31A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1D7-7A83-48BB-813E-A0740874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FDA-8919-4FA3-9F7C-6CC6B5C4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F90-FF3F-4512-AA3C-120FF772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F33-CB97-49CF-9DF9-B9C54D8E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8FE-5465-4F2D-83FA-17F5E9D9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34B-A7BD-4F89-A095-3D667DB1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425-8437-449B-837A-DB802EDA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E9C-1D99-42F8-B9F2-F28341A2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D97C-91D0-4664-8E3D-1B54AD5F0C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" Target="slide4.xml"/><Relationship Id="rId11" Type="http://schemas.openxmlformats.org/officeDocument/2006/relationships/image" Target="../media/image15.gif"/><Relationship Id="rId12" Type="http://schemas.openxmlformats.org/officeDocument/2006/relationships/slide" Target="slide5.xml"/><Relationship Id="rId13" Type="http://schemas.openxmlformats.org/officeDocument/2006/relationships/image" Target="../media/image16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ack" descr=""/>
          <p:cNvPicPr/>
          <p:nvPr/>
        </p:nvPicPr>
        <p:blipFill>
          <a:blip r:embed="rId1"/>
          <a:stretch/>
        </p:blipFill>
        <p:spPr>
          <a:xfrm>
            <a:off x="0" y="-763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57400" y="457200"/>
            <a:ext cx="5486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WELCOME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525780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Times New Roman"/>
              </a:rPr>
              <a:t>2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ffff66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rd" descr=""/>
          <p:cNvPicPr/>
          <p:nvPr/>
        </p:nvPicPr>
        <p:blipFill>
          <a:blip r:embed="rId2"/>
          <a:stretch/>
        </p:blipFill>
        <p:spPr>
          <a:xfrm>
            <a:off x="7886880" y="1905120"/>
            <a:ext cx="125712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shakhand" descr=""/>
          <p:cNvPicPr/>
          <p:nvPr/>
        </p:nvPicPr>
        <p:blipFill>
          <a:blip r:embed="rId3"/>
          <a:stretch/>
        </p:blipFill>
        <p:spPr>
          <a:xfrm>
            <a:off x="3606840" y="2666880"/>
            <a:ext cx="226044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71640" y="838080"/>
            <a:ext cx="96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4. New functions are being added to the ph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9960" y="1523880"/>
            <a:ext cx="59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This sentence is in the form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Present Continuous Passive Voice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5320" y="2743200"/>
            <a:ext cx="47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Subject + be + being + p.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5080" y="3557520"/>
            <a:ext cx="83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They are building a computer center for the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160" y="4929120"/>
            <a:ext cx="89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A computer cente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is being built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y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them for the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411480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81080" y="457200"/>
            <a:ext cx="4419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HOMEWORK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746280" y="324468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your everyday free ta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44197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line some sentences you think difficult to understand, and try to get the main meaning of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stitle9" descr=""/>
          <p:cNvPicPr/>
          <p:nvPr/>
        </p:nvPicPr>
        <p:blipFill>
          <a:blip r:embed="rId1"/>
          <a:stretch/>
        </p:blipFill>
        <p:spPr>
          <a:xfrm>
            <a:off x="4038480" y="838080"/>
            <a:ext cx="308160" cy="274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2120" y="1906560"/>
            <a:ext cx="771192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list as many effects in our daily life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ade by modern i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57400" y="1600200"/>
            <a:ext cx="5257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See You Next Tim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"/>
          <p:cNvSpPr/>
          <p:nvPr/>
        </p:nvSpPr>
        <p:spPr>
          <a:xfrm>
            <a:off x="3340800" y="483696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Copy right@ William 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2003.11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J_034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807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2286000"/>
            <a:ext cx="57150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48320" y="914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914040" y="3352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3276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95880" y="137124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981080" y="44956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437920" y="15998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44956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47680" y="30240"/>
            <a:ext cx="60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Call family when mi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4320" y="607536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Ask for help when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1200" y="1974960"/>
            <a:ext cx="5461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375840" y="2154960"/>
            <a:ext cx="5461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Enj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57280" y="55418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A WORLD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4520" y="10875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幼圆"/>
                <a:ea typeface="幼圆"/>
              </a:rPr>
              <a:t>Mini-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oto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1905120" cy="2012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65520" y="312408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65920" y="320040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lxt60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alxt68" descr=""/>
          <p:cNvPicPr/>
          <p:nvPr/>
        </p:nvPicPr>
        <p:blipFill>
          <a:blip r:embed="rId2"/>
          <a:stretch/>
        </p:blipFill>
        <p:spPr>
          <a:xfrm>
            <a:off x="3733920" y="0"/>
            <a:ext cx="1371600" cy="2308320"/>
          </a:xfrm>
          <a:prstGeom prst="rect">
            <a:avLst/>
          </a:prstGeom>
          <a:ln w="0">
            <a:noFill/>
          </a:ln>
        </p:spPr>
      </p:pic>
      <p:pic>
        <p:nvPicPr>
          <p:cNvPr id="67" name="motoa760" descr=""/>
          <p:cNvPicPr/>
          <p:nvPr/>
        </p:nvPicPr>
        <p:blipFill>
          <a:blip r:embed="rId3"/>
          <a:stretch/>
        </p:blipFill>
        <p:spPr>
          <a:xfrm>
            <a:off x="3809880" y="3809880"/>
            <a:ext cx="1473480" cy="3048120"/>
          </a:xfrm>
          <a:prstGeom prst="rect">
            <a:avLst/>
          </a:prstGeom>
          <a:ln w="0">
            <a:noFill/>
          </a:ln>
        </p:spPr>
      </p:pic>
      <p:pic>
        <p:nvPicPr>
          <p:cNvPr id="68" name="nokia7250" descr=""/>
          <p:cNvPicPr/>
          <p:nvPr/>
        </p:nvPicPr>
        <p:blipFill>
          <a:blip r:embed="rId4"/>
          <a:stretch/>
        </p:blipFill>
        <p:spPr>
          <a:xfrm>
            <a:off x="1752480" y="1752480"/>
            <a:ext cx="1346400" cy="3048120"/>
          </a:xfrm>
          <a:prstGeom prst="rect">
            <a:avLst/>
          </a:prstGeom>
          <a:ln w="0">
            <a:noFill/>
          </a:ln>
        </p:spPr>
      </p:pic>
      <p:pic>
        <p:nvPicPr>
          <p:cNvPr id="69" name="xmemol66" descr=""/>
          <p:cNvPicPr/>
          <p:nvPr/>
        </p:nvPicPr>
        <p:blipFill>
          <a:blip r:embed="rId5"/>
          <a:stretch/>
        </p:blipFill>
        <p:spPr>
          <a:xfrm>
            <a:off x="0" y="4114800"/>
            <a:ext cx="1725480" cy="2743200"/>
          </a:xfrm>
          <a:prstGeom prst="rect">
            <a:avLst/>
          </a:prstGeom>
          <a:ln w="0">
            <a:noFill/>
          </a:ln>
        </p:spPr>
      </p:pic>
      <p:pic>
        <p:nvPicPr>
          <p:cNvPr id="70" name="siemensm55" descr=""/>
          <p:cNvPicPr/>
          <p:nvPr/>
        </p:nvPicPr>
        <p:blipFill>
          <a:blip r:embed="rId6"/>
          <a:stretch/>
        </p:blipFill>
        <p:spPr>
          <a:xfrm>
            <a:off x="7238880" y="3809880"/>
            <a:ext cx="139716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xelibri4" descr=""/>
          <p:cNvPicPr/>
          <p:nvPr/>
        </p:nvPicPr>
        <p:blipFill>
          <a:blip r:embed="rId7"/>
          <a:stretch/>
        </p:blipFill>
        <p:spPr>
          <a:xfrm>
            <a:off x="6934320" y="228600"/>
            <a:ext cx="1549440" cy="3048120"/>
          </a:xfrm>
          <a:prstGeom prst="rect">
            <a:avLst/>
          </a:prstGeom>
          <a:ln w="0">
            <a:noFill/>
          </a:ln>
        </p:spPr>
      </p:pic>
      <p:pic>
        <p:nvPicPr>
          <p:cNvPr id="72" name="bdnvrenxinf1" descr=""/>
          <p:cNvPicPr/>
          <p:nvPr/>
        </p:nvPicPr>
        <p:blipFill>
          <a:blip r:embed="rId8"/>
          <a:stretch/>
        </p:blipFill>
        <p:spPr>
          <a:xfrm>
            <a:off x="4038480" y="2206800"/>
            <a:ext cx="954360" cy="1908000"/>
          </a:xfrm>
          <a:prstGeom prst="rect">
            <a:avLst/>
          </a:prstGeom>
          <a:ln w="0">
            <a:noFill/>
          </a:ln>
        </p:spPr>
      </p:pic>
      <p:pic>
        <p:nvPicPr>
          <p:cNvPr id="73" name="nokia3510" descr=""/>
          <p:cNvPicPr/>
          <p:nvPr/>
        </p:nvPicPr>
        <p:blipFill>
          <a:blip r:embed="rId9"/>
          <a:stretch/>
        </p:blipFill>
        <p:spPr>
          <a:xfrm>
            <a:off x="5486400" y="1752480"/>
            <a:ext cx="1333440" cy="304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48040" y="289080"/>
            <a:ext cx="627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幼圆"/>
                <a:ea typeface="幼圆"/>
              </a:rPr>
              <a:t>How can you descri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幼圆"/>
                <a:ea typeface="幼圆"/>
              </a:rPr>
              <a:t>these cellph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hand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04920" y="2666880"/>
            <a:ext cx="1028520" cy="708120"/>
          </a:xfrm>
          <a:prstGeom prst="rect">
            <a:avLst/>
          </a:prstGeom>
          <a:ln w="0">
            <a:noFill/>
          </a:ln>
        </p:spPr>
      </p:pic>
      <p:pic>
        <p:nvPicPr>
          <p:cNvPr id="76" name="forward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28600" y="3581280"/>
            <a:ext cx="137160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4648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J_025" descr=""/>
          <p:cNvPicPr/>
          <p:nvPr/>
        </p:nvPicPr>
        <p:blipFill>
          <a:blip r:embed="rId1"/>
          <a:stretch/>
        </p:blipFill>
        <p:spPr>
          <a:xfrm>
            <a:off x="5867280" y="4673520"/>
            <a:ext cx="3276720" cy="2184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14440" y="5075280"/>
            <a:ext cx="260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华文彩云"/>
                <a:ea typeface="华文彩云"/>
              </a:rPr>
              <a:t>TIP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2200" y="3124080"/>
            <a:ext cx="316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How much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i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4520" y="334800"/>
            <a:ext cx="34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color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41280" y="411120"/>
            <a:ext cx="316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size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7680" y="1630440"/>
            <a:ext cx="36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shape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400" y="2971800"/>
            <a:ext cx="35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material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it made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05480" y="1627200"/>
            <a:ext cx="41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What features 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it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ack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3000" y="6019920"/>
            <a:ext cx="160020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920" y="0"/>
            <a:ext cx="747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elow is an </a:t>
            </a:r>
            <a:r>
              <a:rPr b="1" i="1" lang="zh-CN" sz="3200" spc="-1" strike="noStrike" u="sng">
                <a:solidFill>
                  <a:srgbClr val="808000"/>
                </a:solidFill>
                <a:uFillTx/>
                <a:latin typeface="黑体"/>
                <a:ea typeface="黑体"/>
              </a:rPr>
              <a:t>outlin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of the text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ellphones. Look at the outline.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try to fill the bl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3080" y="1339920"/>
            <a:ext cx="876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Wang Mei is an example of Chinese tee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who have cellph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7240" y="2238480"/>
            <a:ext cx="77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. Cellphones can be used for many t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For example: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698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Talking to people, sendin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nd pictures,playing games, listening to music, keeping appoi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040" y="388620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. Cellphones also cause prob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82400" y="449568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1). In school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39400" y="441972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ellphones may disturb less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46040" y="4952880"/>
            <a:ext cx="72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2). At home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5480" y="4892760"/>
            <a:ext cx="91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tudents may spend too much tim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oney on phone c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6440" y="1295280"/>
            <a:ext cx="786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4. There are several reasons why tee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like cellph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75040" y="2362320"/>
            <a:ext cx="73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1).Cellphones help us stay in touch with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and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54880" y="32004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2). Cellphones make us feel sa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60280" y="38098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3). Cellphones are fun and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4419720"/>
            <a:ext cx="7905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4). Wang Mei explains why she likes her cell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and what she uses it for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6480" y="457200"/>
            <a:ext cx="81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Further understanding of the text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68840" y="1295280"/>
            <a:ext cx="97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1.Wang Mei puts her hand into her pocket,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out her red cellphone, and press the talk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7200" y="2406600"/>
            <a:ext cx="205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Cellph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21240" y="24526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Mobi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4114800"/>
            <a:ext cx="2895480" cy="1371600"/>
          </a:xfrm>
          <a:prstGeom prst="ellipse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TE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36232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105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41972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2720" y="3648240"/>
            <a:ext cx="60696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ELL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9680" y="3383280"/>
            <a:ext cx="606960" cy="27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MOBI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3600" y="309240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RDLESS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19120" y="57913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VISION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8440" y="762120"/>
            <a:ext cx="83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2.I should be home in about ten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1080" y="137160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应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040" y="1828800"/>
            <a:ext cx="86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You should not use your cellphone in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1080" y="243828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560" y="2909880"/>
            <a:ext cx="784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I think you should think it over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33cc"/>
                </a:solidFill>
                <a:latin typeface="黑体"/>
                <a:ea typeface="黑体"/>
              </a:rPr>
              <a:t>do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1080" y="388620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建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7280" y="4257720"/>
            <a:ext cx="847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We’ve got everything ready. There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be no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1080" y="5257800"/>
            <a:ext cx="20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Should: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判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6440" y="762120"/>
            <a:ext cx="86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3.Cellphones make it possible for us to t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to anyone from anyw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480" y="1905120"/>
            <a:ext cx="71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It: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代替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to talk to anyone from anywher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作形式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92200" y="3657600"/>
            <a:ext cx="33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It: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还可代替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to do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作形式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67280" y="2666880"/>
            <a:ext cx="68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Eg:I think it important to learn English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5880" y="4511520"/>
            <a:ext cx="705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Eg:It is impossible for him to turn down s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黑体"/>
                <a:ea typeface="黑体"/>
              </a:rPr>
              <a:t>a requ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6:29:51Z</dcterms:created>
  <dc:creator>William Qiu</dc:creator>
  <dc:description/>
  <cp:keywords>Life on the go</cp:keywords>
  <dc:language>en-US</dc:language>
  <cp:lastModifiedBy>hj</cp:lastModifiedBy>
  <dcterms:modified xsi:type="dcterms:W3CDTF">2003-11-10T13:02:19Z</dcterms:modified>
  <cp:revision>16</cp:revision>
  <dc:subject>Reading</dc:subject>
  <dc:title>Life On The Go</dc:title>
</cp:coreProperties>
</file>